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8C8C-F136-44A0-B6F5-48A8F11DF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F2B-222D-42D5-A60F-C694B65A4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F6B0-D370-40D0-89CC-DEC9AD82C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CC69-9BC8-429A-A918-C7AB5ACD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4BA-2B92-4A97-9721-AC978EE0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8AE-CD6F-46F3-9F54-1EB80FF3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83E-56CA-4BC6-8C10-518F08E2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B0E-4219-41ED-BFA6-7D4E3D4B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C70-544D-4052-8BAA-507E2773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5D8-48A0-462C-98F0-341D433C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D12-D5B9-400F-AFF4-A4F14ECC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EEA-42EC-4D39-8EAD-DFD76590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A48-E1D4-4866-AEF8-AFF74971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144-71B5-41D9-A3A4-6E36A251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F5E-39A8-412C-B6EF-889AD688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948-8931-468B-8383-31A9D4FF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7ED9-C54A-4055-B938-E507B9FE6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ary Beverly</cp:lastModifiedBy>
  <dcterms:modified xsi:type="dcterms:W3CDTF">2014-09-12T14:47:59Z</dcterms:modified>
  <cp:revision>19</cp:revision>
  <dc:subject/>
  <dc:title>Profile</dc:title>
</cp:coreProperties>
</file>